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179478"/>
        <c:axId val="46180869"/>
      </c:barChart>
      <c:catAx>
        <c:axId val="291794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80869"/>
        <c:crosses val="autoZero"/>
        <c:auto val="1"/>
        <c:lblAlgn val="ctr"/>
        <c:lblOffset val="100"/>
        <c:noMultiLvlLbl val="0"/>
      </c:catAx>
      <c:valAx>
        <c:axId val="461808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794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1221-2579-4508-BCA2-8C87C8F7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8B6D-A96E-48B2-8024-8C1C5918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6796-D57D-44DF-BCDD-5AA153B8B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4B3F-FEFF-478E-823A-80289A4B5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A757-6618-4C17-9D97-7687E7D4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17AB-CE00-4F2C-81A4-AE330A61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0747-2E3E-4F39-B9B8-6C6C9ECF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5383-5079-482F-8918-89964B87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5D54-9600-448E-9FD1-A498DA35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66A0-9645-4D8D-82E4-ACCF46C0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1A69-9058-4F09-AB94-C711CBC7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B898-B606-4873-BE30-01BCCD8A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09FE9-B8C7-4859-A4BF-0A87C66893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