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53669"/>
        <c:axId val="14060957"/>
      </c:barChart>
      <c:catAx>
        <c:axId val="558536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60957"/>
        <c:crosses val="autoZero"/>
        <c:auto val="1"/>
        <c:lblAlgn val="ctr"/>
        <c:lblOffset val="100"/>
        <c:noMultiLvlLbl val="0"/>
      </c:catAx>
      <c:valAx>
        <c:axId val="140609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536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E1CB-2EC7-4910-8148-D3F04106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8234-11C2-44C9-B513-1549BB1B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6E30-A5A2-427D-9998-905D39E4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2AC7-3424-4A53-891A-D1BC5F5D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2F7B-8ECF-48EF-8687-07DF03BC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BF74-CAB1-4464-95DC-E8190ACD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7C21-8E13-4B33-B1A5-B1E5DA19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1C19-86E2-4D9B-BA97-ED6FDF86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3E71-B530-4EFA-AD01-01969F95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EE86-EEAD-4F91-9C66-B8C226E1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7A73-B49A-4E2D-B2A5-2F450A03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C9DF-C249-4E32-897B-C4F06AA7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5A8AF-AE70-425A-A377-A46CA8600C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