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20727"/>
        <c:axId val="5258475"/>
      </c:barChart>
      <c:catAx>
        <c:axId val="87820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8475"/>
        <c:crosses val="autoZero"/>
        <c:auto val="1"/>
        <c:lblAlgn val="ctr"/>
        <c:lblOffset val="100"/>
        <c:noMultiLvlLbl val="0"/>
      </c:catAx>
      <c:valAx>
        <c:axId val="5258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20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576-0D49-42D8-A945-80AB64D0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BCE-152A-4BC4-AC00-C6C120DA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F91-BDFC-4687-87FB-2509264C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348-3FEB-49B3-BD13-AEF48D23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342-B932-4EC8-ACD1-6A489E97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52F-946A-4AB5-95C5-B0E9884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68C-3F72-4C19-BA61-6853F0EC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430-D577-45C0-BC10-C18B568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7EB-174E-4DC7-A5F1-A1700E3E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CBE-A067-4D01-8C44-FF900285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D00-542D-4761-BC00-B317AD5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505-4D9C-48A3-B526-C9228F5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5E205-3638-4351-8378-6E63560CF7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