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14795"/>
        <c:axId val="59154028"/>
      </c:barChart>
      <c:catAx>
        <c:axId val="75214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4028"/>
        <c:crosses val="autoZero"/>
        <c:auto val="1"/>
        <c:lblAlgn val="ctr"/>
        <c:lblOffset val="100"/>
        <c:noMultiLvlLbl val="0"/>
      </c:catAx>
      <c:valAx>
        <c:axId val="59154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14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3D4-2E49-410C-8CAB-AA4E6DA2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477-60E0-48C9-8069-F84EC5C5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7B6-6690-48A2-AC29-71D641B8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5B7-03B3-499D-8639-B0B7618C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38D-7B1F-47F6-B15D-1136AE4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944-EE3C-4DE1-B962-771D3D5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28C-4B46-4EEA-9738-0CE3731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F6D-522A-4B91-B106-7549B0D8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CFD-8BEE-421B-A296-E0BE153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8A1-9A24-4141-A523-EF04631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BEC-14B6-4C0B-BBDC-57936C7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238-8E8D-4F35-B899-31CB6543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514C5-2755-44D8-B88C-16486190B8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