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75684"/>
        <c:axId val="55125118"/>
      </c:barChart>
      <c:catAx>
        <c:axId val="27075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25118"/>
        <c:crosses val="autoZero"/>
        <c:auto val="1"/>
        <c:lblAlgn val="ctr"/>
        <c:lblOffset val="100"/>
        <c:noMultiLvlLbl val="0"/>
      </c:catAx>
      <c:valAx>
        <c:axId val="55125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75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B14-63B4-4CE5-B098-A590C4B6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C9A-4209-4858-8C92-19A9883B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3CC-7C44-4CAF-B9B2-47AAFE3A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610-1E2E-427E-9EC8-10090C7B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5A9-2567-4928-B8FD-2BE37304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1BB-4DA3-42E7-9458-6C3EA538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75D-650B-472E-BE08-146165AD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689-C2A4-483D-ACC4-3992D94E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340-2DB3-431E-A18E-CC090A5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91D-4F6F-4FB0-A97D-907D1EEA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4A0-F03E-4138-8102-840991F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81C-3A32-4431-8D94-3BF2D276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B7F6F-30A4-4A5E-9F3D-6AAEED7B00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