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98197"/>
        <c:axId val="75776546"/>
      </c:barChart>
      <c:catAx>
        <c:axId val="95198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76546"/>
        <c:crosses val="autoZero"/>
        <c:auto val="1"/>
        <c:lblAlgn val="ctr"/>
        <c:lblOffset val="100"/>
        <c:noMultiLvlLbl val="0"/>
      </c:catAx>
      <c:valAx>
        <c:axId val="75776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98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39C-80FD-4A29-B392-4479588B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DB3-2E80-4B28-92B5-CECE3E43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501-8F6E-4F11-A021-A5816B22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4DD-7E85-45B9-A4CB-C94C784C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DAB-38A7-4609-A280-133F5851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FEE-D2C5-45C4-8EA9-CDF27C3B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433-B986-47ED-90D6-A32E3A16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6C2-04B3-41F2-9C1C-C3A6EA4F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A7B-408C-4FA7-BFE2-1B6CA429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4F5-338D-4812-B86C-8718C73A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1DB-35CB-4818-A13A-1AA67A3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40D-F933-4108-8C50-17CDC534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1EFD5-1FBE-4B5A-A293-5B212B60C1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