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332345"/>
        <c:axId val="3472510"/>
      </c:barChart>
      <c:catAx>
        <c:axId val="613323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72510"/>
        <c:crosses val="autoZero"/>
        <c:auto val="1"/>
        <c:lblAlgn val="ctr"/>
        <c:lblOffset val="100"/>
        <c:noMultiLvlLbl val="0"/>
      </c:catAx>
      <c:valAx>
        <c:axId val="34725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3323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562D-179A-4764-A494-7D74DBC1A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D18C-9F4F-45CC-AFC7-86F7EC5F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0321-ECD0-434B-BA83-30BAA310A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87CF-DD10-4B78-AB4F-6D8CBBF8D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9561-2C1A-434F-B900-6BD065A2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E946-841F-4AAF-AE57-2E22F867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C995-24BA-419C-A736-6F37BD60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F9FA-46B4-41FA-9095-2032B518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EE2C-937B-4F67-919A-F4234C49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64DE-1740-4BB0-8776-E6819376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D9B1-4EAD-448C-A983-23A8D8FB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52AB-10A8-4EA3-A2F4-7D46E422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99D9C1-A54D-4ED4-9B96-734F5F8ECF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