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16819"/>
        <c:axId val="15923408"/>
      </c:barChart>
      <c:catAx>
        <c:axId val="14016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23408"/>
        <c:crosses val="autoZero"/>
        <c:auto val="1"/>
        <c:lblAlgn val="ctr"/>
        <c:lblOffset val="100"/>
        <c:noMultiLvlLbl val="0"/>
      </c:catAx>
      <c:valAx>
        <c:axId val="15923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16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6E3-F136-4C02-8A31-E5D979E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B42-D756-4B0C-A56E-8A462A6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3F1-CD38-4115-8AF0-BA9B807D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1DB-CF29-488E-B638-DA9219ED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746-974C-4231-9466-3350C0C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07F-D8F5-4F1F-85D5-7090DF03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20A-AA46-4B1B-8DD4-C35B06B6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3CB-0548-4966-926E-F1F1CB6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34C-D661-4C9E-82D5-45487EB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5A4-6B24-4690-B4AC-EA2ECD75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867-EDE4-43C3-8B50-3EA20B5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ADA-C66C-4688-8C3B-36DDAF0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C33F-29FE-40E9-9B84-A5A5D26DD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